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E7A-39A8-49A5-9EE1-BCA7D39F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093-E555-4BEA-8F17-81A7F1A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81C-99D5-4600-A926-3A65A46D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E5F-E7E8-40E4-86F9-F3DE31CA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AB5-F334-4381-BCB8-C99728D4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EE9C-90F1-4441-A328-CE102D9F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5BD9-23B8-46F8-960B-FFCC6160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7663-832C-4A58-A121-A6E82D2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1D9-3F1D-424B-B655-95B0EC6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4080-B2A3-46E3-9D6D-9087B6A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BC5E-1D51-44A6-AAED-90BF500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FBD-61E6-4036-9DF1-86CD65FF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81F-D526-476B-98A0-3966F1E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1A1-65A1-41B8-A75B-1BBD9A2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2BCF-D813-4AD0-B97E-5A5B8F3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5582-9D57-4021-8790-D22EAD3E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12949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36435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3AB-CD8C-4AB8-ABBD-FD71C570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2CF-D0BC-4E6C-8C00-4611C77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45A-F67B-4E4B-B418-60BE9F16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0B8-73EC-4039-AA0A-C9E70D36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808-52D0-49E3-A9B0-B5F28F6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707-1C66-4122-9F00-CDBD4BA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36435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FDA-2F67-41C7-9806-418DBAF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2949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36435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3B5-D917-4B1D-A3A5-4887AC9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50A1E7-EE1B-47F4-BF1B-882CA6BE1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0"/>
            <a:ext cx="9147240" cy="6861240"/>
          </a:xfrm>
          <a:custGeom>
            <a:avLst/>
            <a:gdLst/>
            <a:ahLst/>
            <a:rect l="l" t="t" r="r" b="b"/>
            <a:pathLst>
              <a:path w="5762" h="4322">
                <a:moveTo>
                  <a:pt x="0" y="0"/>
                </a:moveTo>
                <a:lnTo>
                  <a:pt x="1" y="4321"/>
                </a:lnTo>
                <a:lnTo>
                  <a:pt x="5761" y="4321"/>
                </a:lnTo>
                <a:lnTo>
                  <a:pt x="5761" y="1"/>
                </a:lnTo>
                <a:lnTo>
                  <a:pt x="0" y="1"/>
                </a:lnTo>
                <a:lnTo>
                  <a:pt x="97" y="97"/>
                </a:lnTo>
                <a:lnTo>
                  <a:pt x="5665" y="97"/>
                </a:lnTo>
                <a:lnTo>
                  <a:pt x="5665" y="3745"/>
                </a:lnTo>
                <a:lnTo>
                  <a:pt x="97" y="3745"/>
                </a:lnTo>
                <a:lnTo>
                  <a:pt x="97" y="9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5360">
              <a:spcBef>
                <a:spcPts val="11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cc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cc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cc6600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6489720"/>
            <a:ext cx="545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66"/>
                </a:solidFill>
                <a:latin typeface="Arial"/>
              </a:rPr>
              <a:t>Delivering sustainable solutions in a more competitive wor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62880" y="6010200"/>
            <a:ext cx="615960" cy="797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505640" y="6019920"/>
            <a:ext cx="100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imes New Roman"/>
              </a:rPr>
              <a:t>Slide </a:t>
            </a:r>
            <a:fld id="{95558C47-CE5C-4C7C-AC21-1FB480A0FCB0}" type="slidenum">
              <a:rPr b="0" lang="en-US" sz="1000" spc="-1" strike="noStrike">
                <a:solidFill>
                  <a:srgbClr val="3333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1B087F-4DEC-4A9B-B547-5BBA5C2EB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0"/>
            <a:ext cx="9147240" cy="6861240"/>
          </a:xfrm>
          <a:custGeom>
            <a:avLst/>
            <a:gdLst/>
            <a:ahLst/>
            <a:rect l="l" t="t" r="r" b="b"/>
            <a:pathLst>
              <a:path w="5762" h="4322">
                <a:moveTo>
                  <a:pt x="0" y="0"/>
                </a:moveTo>
                <a:lnTo>
                  <a:pt x="1" y="4321"/>
                </a:lnTo>
                <a:lnTo>
                  <a:pt x="5761" y="4321"/>
                </a:lnTo>
                <a:lnTo>
                  <a:pt x="5761" y="1"/>
                </a:lnTo>
                <a:lnTo>
                  <a:pt x="0" y="1"/>
                </a:lnTo>
                <a:lnTo>
                  <a:pt x="97" y="97"/>
                </a:lnTo>
                <a:lnTo>
                  <a:pt x="5665" y="97"/>
                </a:lnTo>
                <a:lnTo>
                  <a:pt x="5665" y="3745"/>
                </a:lnTo>
                <a:lnTo>
                  <a:pt x="97" y="3745"/>
                </a:lnTo>
                <a:lnTo>
                  <a:pt x="97" y="9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235080"/>
            <a:ext cx="1663560" cy="1054080"/>
          </a:xfrm>
          <a:prstGeom prst="rect">
            <a:avLst/>
          </a:prstGeom>
          <a:solidFill>
            <a:srgbClr val="cc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981080" y="13716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166680" y="6489720"/>
            <a:ext cx="545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66"/>
                </a:solidFill>
                <a:latin typeface="Arial"/>
              </a:rPr>
              <a:t>Delivering sustainable solutions in a more competitive wor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462880" y="6010200"/>
            <a:ext cx="615960" cy="797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buClr>
                <a:srgbClr val="cc66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buClr>
                <a:srgbClr val="cc66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buClr>
                <a:srgbClr val="cc6600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35080" y="235080"/>
            <a:ext cx="8673840" cy="5626080"/>
            <a:chOff x="235080" y="235080"/>
            <a:chExt cx="8673840" cy="5626080"/>
          </a:xfrm>
        </p:grpSpPr>
        <p:sp>
          <p:nvSpPr>
            <p:cNvPr id="91" name=""/>
            <p:cNvSpPr/>
            <p:nvPr/>
          </p:nvSpPr>
          <p:spPr>
            <a:xfrm>
              <a:off x="235080" y="235080"/>
              <a:ext cx="1663560" cy="1054080"/>
            </a:xfrm>
            <a:prstGeom prst="rect">
              <a:avLst/>
            </a:prstGeom>
            <a:solidFill>
              <a:srgbClr val="9999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87560" y="235080"/>
              <a:ext cx="1663560" cy="1054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40040" y="235080"/>
              <a:ext cx="166392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92880" y="235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45360" y="235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5080" y="1378080"/>
              <a:ext cx="1663560" cy="1054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080" y="2521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5080" y="3664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080" y="4807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7560" y="1378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7560" y="2521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87560" y="3664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7560" y="4807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40040" y="1378080"/>
              <a:ext cx="166392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0040" y="2521080"/>
              <a:ext cx="166392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0040" y="3664080"/>
              <a:ext cx="166392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0040" y="4807080"/>
              <a:ext cx="166392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92880" y="1378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2880" y="2521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92880" y="3664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2880" y="4807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45360" y="1378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5360" y="2521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45360" y="3664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5360" y="4807080"/>
              <a:ext cx="1663560" cy="10540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19047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eveso II Directive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udy of the effectiveness of the requirements imposed on public authorities</a:t>
            </a:r>
            <a:br>
              <a:rPr sz="4400"/>
            </a:b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by Dan Quinn (ERM) at Stakeholder Consultation Mtg.  EC Brussels 10 Nov 200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25A3-5492-44D9-9B38-B90DA597EE30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External Emergency plan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eater level of preparedness in Seveso p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 for specific information for the emergency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st practice can be achieved by providing guidance on emergency plan testing, comparison and benchmarking and sharing of relevant information between authorities and agenc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E07-BDAC-46D8-A1C9-B2B28C8A2B3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info to public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idence to suggest that rules may not necessarily be being complied with (lack of monito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fferent methods u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of the internet to do this is increa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ck of two-way communicat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F04-714A-4867-853F-3D3F03946E27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accident reportin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melines and level of obligations unproblema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eral trend that accidents which fall in Part2 of Annex VI (near misses etc) are not repor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472-4B7C-49E3-88F9-2F59BBB5BA9C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commendations (1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UP – guidance on consultation and technical ad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spections – those MS which indicate resource issues could address these b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5360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systems for taking information gained during inspection to facilitate coordinated inspection; 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5360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rrangements such as framework agreements and memoranda of understanding to coordinate insp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fety report – guidance and criteria to assess safety reports for similar establish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142-3F49-461D-9838-5A6EDB470C5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commendations (2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EP- information should be more specific to needs of emergency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fo to public – improve monitoring of provision of inf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cident reporting – guidance on Part2 reportable incid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7CE-3E67-4496-B969-2DBC74EB316E}" type="slidenum">
              <a:t>14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tion and Summ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of key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recommend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847-E2D9-4966-BCDC-94A58AAD7853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Study Objectiv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verall aim: to provide Commission with key findings in relation to the practical implementation of Seveso in Member States, together with a list of improvements, if appropr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ine organisation of authorities in 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nd out wheth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5360">
              <a:spcBef>
                <a:spcPts val="11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same level of safety being ensured in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5360">
              <a:spcBef>
                <a:spcPts val="11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rators are treated eq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nd out what are the best pract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B40-4976-42E6-B02A-9BB3C1F2C91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Main PA duties consider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nd use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spectio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and assessment of the safety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emergency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sion of information to the publ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cident re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62A-CF56-49D6-A080-F80FF9F0584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 based questionn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 of questionnaire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llow up 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keholder 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C79-1B05-4DD2-9D01-017BAC512891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verall, the key aims of the Directive are being achieved and implementation is ef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isational structure does not appear to have a significant influence on effective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ope for greater harmonis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view that more guidance is required, although there is much guidance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me results point to possible inconsistencies of implementation in M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B4B-CCA0-4C5B-8500-5AF83AC82B9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LUP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 for setting safety distances are effective in minimising risks to peo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equate cooperation between relevant author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d level of aware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nning authorities need more timely advice and tools/capabilities to process that advi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1B1-6245-4253-8F96-9348608422E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Inspection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eral view that inspections are effective in their a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ope for integrating Seveso and other HS&amp;E type inspe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port for the MJV programm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ed for more training of inspec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3B8-965B-45BC-B688-B5B7DA364B1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66"/>
            </a:gs>
            <a:gs pos="100000">
              <a:srgbClr val="323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Key results (Safety report assessment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ant and used for a variety of purpo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MS (description) is integral part of safety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99"/>
              </a:spcBef>
              <a:buClr>
                <a:srgbClr val="99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parent lack of tools for comparing reports for different establishment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B38-4A76-4737-ACC6-E8000887E8D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5:20:42Z</dcterms:created>
  <dc:creator>J Gorham</dc:creator>
  <dc:description>Use this template for LCD presentations. This template is NOT recommended for OHP or printing. Change the Design Template to print</dc:description>
  <cp:keywords/>
  <dc:language>en-US</dc:language>
  <cp:lastModifiedBy>Daniel.Quinn</cp:lastModifiedBy>
  <cp:lastPrinted>1999-10-19T16:38:14Z</cp:lastPrinted>
  <dcterms:modified xsi:type="dcterms:W3CDTF">2009-11-05T14:53:56Z</dcterms:modified>
  <cp:revision>286</cp:revision>
  <dc:subject>ERM standard templates</dc:subject>
  <dc:title>ERM Powerpoint template da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RM SP Key Documents</vt:lpwstr>
  </property>
  <property fmtid="{D5CDD505-2E9C-101B-9397-08002B2CF9AE}" pid="3" name="DescKeywords">
    <vt:lpwstr>Global Sales Program - Round 2 Call Slides</vt:lpwstr>
  </property>
  <property fmtid="{D5CDD505-2E9C-101B-9397-08002B2CF9AE}" pid="4" name="DocumentType">
    <vt:lpwstr>Forms and templates</vt:lpwstr>
  </property>
  <property fmtid="{D5CDD505-2E9C-101B-9397-08002B2CF9AE}" pid="5" name="ERMStatus">
    <vt:lpwstr>For internal reference only</vt:lpwstr>
  </property>
  <property fmtid="{D5CDD505-2E9C-101B-9397-08002B2CF9AE}" pid="6" name="ExpiryDate">
    <vt:lpwstr>2009-12-31T00:00:00Z</vt:lpwstr>
  </property>
  <property fmtid="{D5CDD505-2E9C-101B-9397-08002B2CF9AE}" pid="7" name="GlobalKeyClient">
    <vt:lpwstr>Other / Not Applicable</vt:lpwstr>
  </property>
  <property fmtid="{D5CDD505-2E9C-101B-9397-08002B2CF9AE}" pid="8" name="OpCo">
    <vt:lpwstr>Other / Not Applicable</vt:lpwstr>
  </property>
  <property fmtid="{D5CDD505-2E9C-101B-9397-08002B2CF9AE}" pid="9" name="Practice">
    <vt:lpwstr>;#Other / Not Applicable;#</vt:lpwstr>
  </property>
  <property fmtid="{D5CDD505-2E9C-101B-9397-08002B2CF9AE}" pid="10" name="Region">
    <vt:lpwstr>Global</vt:lpwstr>
  </property>
  <property fmtid="{D5CDD505-2E9C-101B-9397-08002B2CF9AE}" pid="11" name="Sector">
    <vt:lpwstr>;#Other / Not Applicable;#</vt:lpwstr>
  </property>
  <property fmtid="{D5CDD505-2E9C-101B-9397-08002B2CF9AE}" pid="12" name="SupportServices">
    <vt:lpwstr>Marketing</vt:lpwstr>
  </property>
</Properties>
</file>