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1B9-216F-4E9C-970C-762C2554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145-72F5-4E7F-9A9B-C5FE301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43E-864D-4AF3-B556-38645102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115-3822-4139-8BCE-2CFFC5A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25A-382B-4FCA-A4F9-B325DCBC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06E-CD6B-4F2B-B47C-E5938C1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8B3-40EA-4C0A-AEC4-38DBB2CC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867-BAE0-435C-B022-42BE883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D39-C027-4560-91DC-97D2BF65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BE-E60A-48DB-ADDC-E27D08D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FF0-0D3F-4495-BF71-7FEEB68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FCA-7405-4F14-BB32-B3206ED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keholder Consul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so II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9AC-2B44-4F67-8FD3-4025703C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332280"/>
            <a:ext cx="8893080" cy="1429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99036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christian.schaible@eeb.org" TargetMode="External"/><Relationship Id="rId2" Type="http://schemas.openxmlformats.org/officeDocument/2006/relationships/hyperlink" Target="http://www.eeb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VESO II revisi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views of ENGO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.-Phys. Oliver Kalus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56-B4F4-40B6-BD43-1D78429E36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5BEBF-C446-43FB-9745-22779DD3133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min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such establishments belongs to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o upper and lower tier estab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non-Seveso installation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domino effects to be based on “worst case”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B69-5C7F-4089-8759-596554AB37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FEE7C-FE57-46D0-A364-A7775BB2C7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nd use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all Seveso estab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is on prevention of hazards and risks to peop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nsiderations of areas of particular sensitivity or interests (need identification &amp; protection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of appropriate distances and scenarios to be based on “worst c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257-FDBA-4656-A3EA-64619F99207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88F1-9109-4AC0-8B64-F7D6122A02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formation to the public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ctive dissemination policy having transparency as its key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formation to be made available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.g. safety report, MAPP, emergency plans, maps and underlying worst case scenarios informing about potential effects of major accident, “near misses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to regularly update + inform public about right and means of access to information (e.g. local newspapers, homepag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24E-A8F5-47F8-8FCF-A8B84CD025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E4DA3-5768-4042-A35A-5F82CFC513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formation to the public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xclusion shall be restric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eful balance of public interests (to disclosure) against non disclosure should be guiding such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criteria for confidentiality to be developed with involvement of all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7D5-E91A-4FF9-9C0E-B4F6DD421E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0AD65-A0D9-460B-851D-55FDADFFE7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formation to the public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 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formation falling under the reporting obligation (Art.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reportable major accidents under section I.1 of Annex VI needs to be lowered to 5% of the lower-tier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ier sites should also establish external emergency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or public participation (e.g. MAPP, Safety re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DA5-8533-48B7-B633-903243D5EC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7448C-84D5-4A36-B2F8-E6B3498FA9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ex I adaptation (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no establishments are downgraded to lower categories or drop out from the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opportunity of inclusion of new substan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methodology that enabl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dates according to new scientific findings, establish standing technical committee involv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and robust scientific and technical justification for setting of thres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ynergy and cumulativ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41E-AC43-4C06-8001-50523E9343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979B3-22B0-4C90-8AF8-6312DC7D24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ex I adaptation (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476360" y="1341360"/>
          <a:ext cx="6408720" cy="4807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4087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30F-5665-4858-894E-EA67D64C69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45A2E-DEC9-466A-AB63-9EDBCE0054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ex I adaptation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toxic 1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cinogenic substances (1A+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 ca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atic environment cat Acute 1+ chronic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ophoric so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mable aerosols + “contact with acids liberates toxic ga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DD/P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s of Very High Concern (SVH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7A6-1A1D-41A8-8212-DCB17C4041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6E4BF-7914-43A5-908B-043CC07302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Thank you for your attention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European Environmental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Bureau Européen de l’Environnemen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Boulevard de Waterl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B- 1000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Belgi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Tel: + 32 2 289 10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Fax: + 32 2 289 10 9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E-mail: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istian.schaible@eeb.org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Site Web: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b.org</a:t>
            </a: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An international non-profit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Arial"/>
              </a:rPr>
              <a:t>Association Internationale sans but lucrati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E86-FA8F-4C19-883D-A1BF21E086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AAA2C-E8E3-4F71-8AA0-294BB81E8A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, Definitions, 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bligations to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 and 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o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-us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o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 of Annex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001-F4EB-4973-9162-C50FA2DE91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8A1A7-03DC-4F4E-AD81-88DA9CD8FF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eral Comments (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: learning from experie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tep: protect and preserve the environment and human health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ventiv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ary principle should be guiding the polic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through enforceability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8DB-5944-4B9A-9BA1-B3370EB84C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545F6-D2E8-415C-98D5-A965EB2874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eral Comments (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so installations to be designed, operated and maintained according to the “state of the art” in terms of industri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fall within Chapter II of Industrial Emissions Directive (BAT based per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BREF shall provide special provisions in respect to safety of 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22B-7B2E-4972-8463-36349659D8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88A1-72A1-458D-AE5D-B5C4F5F9B9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cope, defini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2.1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s of control of an industrial chemical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-&gt; excludes substances generated b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also include underground installatio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cut-off between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y sto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versus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46B-C301-4519-88D2-AC12313E10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F781E-F5D0-439D-9AF3-79EDB62BE55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involving risks (e.g. loading and unloading at docks, wharves or marshalling yards) should not be excluded; Railway-stations, harbours, airports should be in the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ransport of dangerous substances in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ssess exclusion of waste land-fil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perational tailings, disposal facilities, tailing ponds or 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365-16DC-4A1B-AFE9-B7F43A9B0E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4C5BA-7664-46A6-B870-3E49AC8DC9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eral oblig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lear measures in Art. 5 (exampl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 to prevent or reduce presence of dangerous substances (substit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specifications of all relevant hazards to be covered (e.g. operational hazards, human and organizational aspects, external haza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E8F-F171-4380-A341-2F38A679C7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83BB4-B8DC-47E8-B62D-4A349219B4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lear it applies to all establishments (delete Art 7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provisions and deadlines for the substitution of dangerous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aims and principles of action with respect to prevention of hazards shall be elabo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 of process safety indicators and safety culture should be expl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onsideration of “human fac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A9F-8413-4728-B077-AC03019791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58044-CCAA-4373-97C0-C81E5F9A876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MS + Safety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 shall clarify that both upper-tier and lower-tier sites should have a 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he derogation clause under 9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report for lower-tier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C4B-EFAF-41B4-ABAE-8406727902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95E93-D626-4544-BBD4-FEC768099A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3:56:25Z</dcterms:created>
  <dc:creator>Press stagiaire</dc:creator>
  <dc:description/>
  <dc:language>en-US</dc:language>
  <cp:lastModifiedBy>biermto</cp:lastModifiedBy>
  <dcterms:modified xsi:type="dcterms:W3CDTF">2009-11-10T06:59:12Z</dcterms:modified>
  <cp:revision>10</cp:revision>
  <dc:subject/>
  <dc:title>Slide 1</dc:title>
</cp:coreProperties>
</file>