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in D'h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79A7-A3A0-4777-859C-94AAA8E80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68E4-5170-41C6-980D-DC8FF9E67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5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in D'h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3429-B40C-4671-A50D-2CC534D2F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5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in D'h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E53B-471C-4D20-9D53-218271E5D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in D'h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07A4-92DB-40B6-A820-010E2F42D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5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in D'ha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827-471A-4527-A859-5B480D3B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995-12C2-4CE2-9577-DFDCD09E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AD9-CC84-4861-B7DB-4E921FE9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7B0-D341-4518-8141-8D5C438B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4488-774F-4F9E-BFD0-719C4447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780E-A0CC-461E-B5E3-06D9C4A1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0D06-ADDA-491F-A710-20D5AE13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318E-D73F-482E-BB70-F7920C98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C937-BC5B-42E1-BA0B-D1E1E437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3B90-AEB8-4DBD-B057-A02F2C8C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CAFE-F738-4627-B7D9-82DDA40C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8FF-1415-473F-9A44-B65C99AB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8787-1B02-4DA4-8EE6-26593073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4263-61D0-4DA4-A5D9-34E4C63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CBD2-3AF8-48F8-865A-6B013A92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E42C-D47B-4073-8BD2-A076A15D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CA88-F6DB-41B0-B78C-7CA8E180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462-58E3-4A94-A6C2-277EBD2C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E10-195F-4167-B745-F774288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53C-4BD7-4CB6-A77B-7A3E0B29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9F9-1704-415D-AD82-99BD1998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DF9-D572-4F0F-BCCD-5178231E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D8F-225D-4B3C-B3AF-9BAC43E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DEA-6D97-43ED-B04B-65B7E98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7609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76092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7609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D55-56B2-4971-80CD-0E01F4024EFB}" type="slidenum">
              <a:rPr b="1" lang="en-US" sz="1000" spc="-1" strike="noStrike">
                <a:solidFill>
                  <a:srgbClr val="37609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276120" y="201600"/>
            <a:ext cx="50004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276120" y="201600"/>
            <a:ext cx="500040" cy="519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356760" y="6429240"/>
            <a:ext cx="300060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7609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76092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7609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06B-9FDD-4A63-B001-397CE4DCD13F}" type="slidenum">
              <a:rPr b="1" lang="en-US" sz="1000" spc="-1" strike="noStrike">
                <a:solidFill>
                  <a:srgbClr val="37609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ext Placeholder 5" descr=""/>
          <p:cNvPicPr/>
          <p:nvPr/>
        </p:nvPicPr>
        <p:blipFill>
          <a:blip r:embed="rId1"/>
          <a:stretch/>
        </p:blipFill>
        <p:spPr>
          <a:xfrm>
            <a:off x="712800" y="1420920"/>
            <a:ext cx="7785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Flammable aerosols</a:t>
            </a:r>
            <a:br>
              <a:rPr sz="4000"/>
            </a:b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with non-flammable propell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EA supports a specific entry for flammable aerosols with non-flammable propellants i.e. containing only flammable liquids (but no flammable liquids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ategory 1) with qualifying quantities of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5000/50000 tonn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 u="sng">
                <a:solidFill>
                  <a:srgbClr val="1f497d"/>
                </a:solidFill>
                <a:uFillTx/>
                <a:latin typeface="Calibri"/>
              </a:rPr>
              <a:t>as today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5" descr=""/>
          <p:cNvPicPr/>
          <p:nvPr/>
        </p:nvPicPr>
        <p:blipFill>
          <a:blip r:embed="rId1"/>
          <a:stretch/>
        </p:blipFill>
        <p:spPr>
          <a:xfrm>
            <a:off x="-6480" y="3828960"/>
            <a:ext cx="5870880" cy="263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miley aerosol.bmp"/>
          <p:cNvPicPr/>
          <p:nvPr/>
        </p:nvPicPr>
        <p:blipFill>
          <a:blip r:embed="rId2"/>
          <a:stretch/>
        </p:blipFill>
        <p:spPr>
          <a:xfrm>
            <a:off x="5643720" y="642960"/>
            <a:ext cx="29001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31640" y="1356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Revision to SEVESO following G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Today: Inclusion of Aerosols with bulk LPG is too cauti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Tomorrow: Flammable Aerosols to have their own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Opportunity to set appropriate qualifying quant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Date Placeholder 6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What is new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1640" y="178560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Current aggregation rule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f497d"/>
                </a:solidFill>
                <a:latin typeface="Calibri"/>
              </a:rPr>
              <a:t>liquefied extremely flammable gases</a:t>
            </a:r>
            <a:br>
              <a:rPr sz="3200"/>
            </a:b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nd </a:t>
            </a:r>
            <a:r>
              <a:rPr b="0" i="1" lang="en-GB" sz="3200" spc="-1" strike="noStrike">
                <a:solidFill>
                  <a:srgbClr val="1f497d"/>
                </a:solidFill>
                <a:latin typeface="Calibri"/>
              </a:rPr>
              <a:t>flammable liquids</a:t>
            </a:r>
            <a:br>
              <a:rPr sz="3200"/>
            </a:b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in flammable aeroso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431640" y="478620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Flammable aerosols (as mix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own Arrow 7"/>
          <p:cNvSpPr/>
          <p:nvPr/>
        </p:nvSpPr>
        <p:spPr>
          <a:xfrm>
            <a:off x="4357800" y="4429080"/>
            <a:ext cx="357120" cy="92880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8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9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What is not new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164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aerosols industry established for 6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40 years with CF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60 years with flammable propellants such as propane/butane, dimethyl ether (DME), or non flammable compressed g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ew significant storage fires in Europe, but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no major incident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ccording to Seveso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mprehensive guidance on 'relevant good practice precautions' readily available and widely adop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6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8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FEA’s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EA has calculated threshold quantities equivalent to those obtained using the current aggregation rules for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liquefied extremely flammable gase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flammable liquid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lammable aerosols (as a mixtu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Calculated average equivalent threshold quantitie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e 130/521 tonne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flammable aerosol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(including cat.1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nd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FEA’s work (I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28480"/>
            <a:ext cx="85075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owever a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first FEA surve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lated to a scenario with threshold quantities of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150/500 tonnes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Flammable Aerosol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how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ignificant change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the number of Seveso sites (aerosol industry sites on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Lower tier manufacturing sites: 25% decrease (lower tier to higher ti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Higher tier manufacturing sites: 44% incr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Lower tier warehouses: 14% incr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Higher tier warehouses: 17% incr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is means that the FEA calculated average equivalent threshold quantities are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too conservativ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Further FEA’s work and 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case of accidents, Flammable Aerosols (containers of maximum 1 litre) will clearly have a lower impact than LPG in bulk tanks. This 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broadly recognised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however assessing this difference quantitatively is not an easy ta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EA has commissioned an external consultant (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kin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) in order to evaluate such difference and to propose adequate thresholds quantities for flammable aeros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Atkins’ 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Flammable aerosols do not pose a substantial major accident hazard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lammable aerosol hazards are already well managed by the aerosol industry (decades of experience, comprehensive safety guidanc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lying the qualifying quantities used for LPG generally 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very cautiou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neither justified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n the basis of the current state of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opportunity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exists due to the existence of a separate category for aeroso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Atkins’ conclusions (I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ing the qualifying quantities of flammable aerosols by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 factor 10 would reflect the difference in associated hazard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 This would give qualifying quantities of 500/2000 tonne of </a:t>
            </a:r>
            <a:r>
              <a:rPr b="0" lang="en-GB" sz="2800" spc="-1" strike="noStrike" u="sng">
                <a:solidFill>
                  <a:srgbClr val="1f497d"/>
                </a:solidFill>
                <a:uFillTx/>
                <a:latin typeface="Calibri"/>
              </a:rPr>
              <a:t>LPG i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flammable aeroso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flecting the findings of the FEA calculated equivalent threshold quantities, this would give qualifying quantities of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1300/5200 tonne </a:t>
            </a:r>
            <a:r>
              <a:rPr b="0" lang="en-GB" sz="2800" spc="-1" strike="noStrike" u="sng">
                <a:solidFill>
                  <a:srgbClr val="1f497d"/>
                </a:solidFill>
                <a:uFillTx/>
                <a:latin typeface="Calibri"/>
              </a:rPr>
              <a:t>of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 flammable aerosol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214200" y="6429240"/>
            <a:ext cx="292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10/11/2009 – EC Stakeholder consult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43160" y="642924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Calibri"/>
              </a:rPr>
              <a:t>Alain D'HA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2:19:19Z</dcterms:created>
  <dc:creator>VB</dc:creator>
  <dc:description/>
  <dc:language>en-US</dc:language>
  <cp:lastModifiedBy>D'Haese A.</cp:lastModifiedBy>
  <dcterms:modified xsi:type="dcterms:W3CDTF">2009-10-30T11:26:25Z</dcterms:modified>
  <cp:revision>410</cp:revision>
  <dc:subject/>
  <dc:title>Slide 1</dc:title>
</cp:coreProperties>
</file>